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0.png" ContentType="image/png"/>
  <Override PartName="/ppt/media/image5.wmf" ContentType="image/x-wmf"/>
  <Override PartName="/ppt/media/image18.gif" ContentType="image/gif"/>
  <Override PartName="/ppt/media/image8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8A8BE06-DF2F-450D-AB93-1DF5EE8F1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E9995C6-41C8-4049-8A6E-E6A0F5067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task and debrief – 10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8F77F75-9A16-47E9-ACA1-D0C2047C0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" spc="-1" strike="noStrike">
                <a:solidFill>
                  <a:srgbClr val="000000"/>
                </a:solidFill>
                <a:latin typeface="Arial"/>
              </a:rPr>
              <a:t>Our turn to share: How we opened up the task…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" spc="-1" strike="noStrike">
                <a:solidFill>
                  <a:srgbClr val="000000"/>
                </a:solidFill>
                <a:latin typeface="Arial"/>
              </a:rPr>
              <a:t>Started with an existing task (Hula Hoop Activity from TIPS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" spc="-1" strike="noStrike">
                <a:solidFill>
                  <a:srgbClr val="000000"/>
                </a:solidFill>
                <a:latin typeface="Arial"/>
              </a:rPr>
              <a:t>Developed learning goals based on the overall/specific expectation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" spc="-1" strike="noStrike">
                <a:solidFill>
                  <a:srgbClr val="000000"/>
                </a:solidFill>
                <a:latin typeface="Arial"/>
              </a:rPr>
              <a:t>Focus on the big idea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25 minutes – do you think this is enough?  Also, rather than have them write all the BI and expectations, lets have them code it someway to make it f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F0FAC54-9F5F-4952-99C3-003E3A48D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nsolidate – 3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CC389A4-F320-4F33-AB88-299804EC1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DC04F20-AB9B-4874-AACC-570A31D44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k the participants to complete the statement:  "What's important about parallel tasks is …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articipants complete on a sticky and post on the door as they le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0DCCBF9-4CA9-4170-B255-D7DD5154F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8BE933A-29BC-4355-81DB-48F4AAEC5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brief with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task and debrief – 10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ote about follow-up with expectations and processes – just a reminder to include process expectations?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4FBD41A-F817-412E-BEDB-629A51520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43C6776-5A31-49C2-B4A4-15DC964D5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DFF023F-90FA-45D0-AB8E-F3C11EC78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AD77464-D45B-44ED-A361-BC1AA966E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4A4C05B-6D27-441D-84AE-22AE9B804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DA0D53D-5AEA-4203-96C7-8C3946045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99E4-A0D2-4FA7-AB1F-0E3F800D9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170D-EBD6-434C-BC8E-9921741A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52A2-A2EE-4956-8385-7CF2C31AE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C32E-28D5-4B18-A0C0-7C3749760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DED0-E9F7-462A-9B79-0CAE9785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2E66-DEA3-437F-812D-8DF167CC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C206-0A87-41A3-A227-3BD0C960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08C5-DC97-4D8B-BAB1-55DBC3BE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2E96-CBD0-4094-A0E8-3AF0507B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F1AB-E6B6-46FA-AE20-BB4612F9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3831-39D0-409E-B091-E4364F5C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8245-41D9-4875-B6CF-C028B43E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8A99-3A9A-4F91-895D-6F25B675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043A-69FA-4CBF-9E34-4E00C52B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4557-39B3-49BD-BE81-9D471F6E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9B83-6AB9-4B49-B7C7-810970508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1E40-7513-463B-BF82-B49C98AC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1BFB-1EA9-4BA8-8579-9EEF30A2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2D60-F266-48FD-A793-E6725693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40C3-90BD-442D-9D50-400D43C4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819A-5876-4E13-A521-27A41071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FDE0-11E9-40DE-8837-96CB726A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A8B4-EE8A-48A2-AFB8-0D61DF99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DD89-BDD8-4445-8603-CA9125F8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7C0B-C76D-4F16-AFD8-830126424B9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336600"/>
            <a:ext cx="8388360" cy="1857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202520" y="135000"/>
            <a:ext cx="1590480" cy="576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487600" y="26676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ffffff"/>
                </a:solidFill>
                <a:latin typeface="Arial"/>
              </a:rPr>
              <a:t>Summer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673000" y="2133360"/>
            <a:ext cx="57150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C9F4-12AA-4385-A3F5-F4ECC795551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6853320" cy="152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236000" y="152280"/>
            <a:ext cx="1590480" cy="576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43280" y="241200"/>
            <a:ext cx="32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ffffff"/>
                </a:solidFill>
                <a:latin typeface="Arial"/>
              </a:rPr>
              <a:t>Summer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images.google.ca/imgres?imgurl=http://www.texarkanacollege.edu/~mstorey/NOVA/Image892.jpg&amp;imgrefurl=http://www.texarkanacollege.edu/~mstorey/NOVA/tiworkshops.html&amp;usg=__X0JPtT8oUsEa-Yk6bbQFk-9ediY=&amp;h=287&amp;w=249&amp;sz=21&amp;hl=en&amp;start=6&amp;tbnid=H_2TO7IwNN8LKM:&amp;tbnh=115&amp;tbnw=100&amp;prev=/images%3Fq%3DTI%2BCBR%26gbv%3D2%26hl%3Den%26sa%3D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images.google.ca/imgres?imgurl=http://www.ti83calculator.net/ti83.jpg&amp;imgrefurl=http://www.ti83calculator.net/&amp;usg=__Uy2lF01SbsJNbCom6Xq3_0bwehY=&amp;h=351&amp;w=225&amp;sz=22&amp;hl=en&amp;start=19&amp;tbnid=1JhiWyS8HNOPrM:&amp;tbnh=120&amp;tbnw=77&amp;prev=/images%3Fq%3DTI%2Bcalculator%26gbv%3D2%26hl%3Den%26sa%3D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gi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85520" y="1989000"/>
            <a:ext cx="637884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90d8"/>
                </a:solidFill>
                <a:latin typeface="Arial"/>
              </a:rPr>
              <a:t>Mathematics</a:t>
            </a:r>
            <a:br>
              <a:rPr sz="3200"/>
            </a:br>
            <a:r>
              <a:rPr b="1" lang="en-US" sz="4800" spc="-1" strike="noStrike">
                <a:solidFill>
                  <a:srgbClr val="20c657"/>
                </a:solidFill>
                <a:latin typeface="Arial"/>
              </a:rPr>
              <a:t>Summer Institute</a:t>
            </a:r>
            <a:br>
              <a:rPr sz="4400"/>
            </a:b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27280" y="3645000"/>
            <a:ext cx="61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b42478"/>
                </a:solidFill>
                <a:latin typeface="Arial"/>
              </a:rPr>
              <a:t>Quadratic &amp; Trigonometric Relationships</a:t>
            </a:r>
            <a:r>
              <a:rPr b="1" lang="en-CA" sz="2800" spc="-1" strike="noStrike">
                <a:solidFill>
                  <a:srgbClr val="21d15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203640" y="507060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2490d8"/>
                </a:solidFill>
                <a:latin typeface="Arial"/>
              </a:rPr>
              <a:t>Sessions  4 and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76280" y="1904760"/>
            <a:ext cx="785952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How would the function change if the given point (-1, 5) changed to (-1, -5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E2CD-76F1-457F-82C9-7641CFDEE9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0000"/>
                </a:solidFill>
                <a:latin typeface="Arial"/>
              </a:rPr>
              <a:t>Action!</a:t>
            </a: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 – Parallel Tasks</a:t>
            </a: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 </a:t>
            </a:r>
            <a:r>
              <a:rPr b="0" lang="en-CA" sz="2000" spc="-1" strike="noStrike">
                <a:solidFill>
                  <a:srgbClr val="0d469b"/>
                </a:solidFill>
                <a:latin typeface="Arial"/>
              </a:rPr>
              <a:t>… continued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Select one of the parallel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Form a group with others working on the same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Complete the task by selecting one of the questions and then prompt each other using the follow-up questions prov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Match the parallel task to a big idea and then find all the expectations that are addressed by the two parallel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60CB-86E7-47D3-8319-2E58A2ED58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98400" y="1699920"/>
            <a:ext cx="57150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469b"/>
                </a:solidFill>
                <a:latin typeface="Arial"/>
              </a:rPr>
              <a:t>Break Tim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59280" y="2565360"/>
            <a:ext cx="2514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0000"/>
                </a:solidFill>
                <a:latin typeface="Arial"/>
              </a:rPr>
              <a:t>Action!</a:t>
            </a:r>
            <a:r>
              <a:rPr b="0" lang="en-CA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CA" sz="4000" spc="-1" strike="noStrike">
                <a:solidFill>
                  <a:srgbClr val="333399"/>
                </a:solidFill>
                <a:latin typeface="Arial"/>
              </a:rPr>
              <a:t>– Parallel Task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7156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Walk the Walk &amp; Talk the 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76360" y="2565360"/>
            <a:ext cx="2228760" cy="1981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2467080"/>
            <a:ext cx="3240000" cy="3738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79640" y="2960640"/>
            <a:ext cx="1590840" cy="248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024F-6FAB-481B-B175-102AEB2D28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90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0000"/>
                </a:solidFill>
                <a:latin typeface="Arial"/>
              </a:rPr>
              <a:t>Action!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d469b"/>
                </a:solidFill>
                <a:latin typeface="Arial"/>
              </a:rPr>
              <a:t>… continued</a:t>
            </a:r>
            <a:endParaRPr b="0" lang="en-US" sz="28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03280" y="1376280"/>
            <a:ext cx="5472000" cy="3141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716360" y="1700280"/>
            <a:ext cx="3959280" cy="2897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262520" y="4954680"/>
            <a:ext cx="65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Record your thinking on your hand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83F4-9D64-4AA5-A27D-DC8910D51F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0000"/>
                </a:solidFill>
                <a:latin typeface="Arial"/>
              </a:rPr>
              <a:t>Action!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… </a:t>
            </a:r>
            <a:r>
              <a:rPr b="0" lang="en-CA" sz="2800" spc="-1" strike="noStrike">
                <a:solidFill>
                  <a:srgbClr val="0d469b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Form teams of three (walker, calculator operator, CBR manage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Select one of the walks pictured or create your own.  See BLM 3.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Discuss and record how you will “Walk the Walk”  to make the graph and use this knowledge to create a similar graph with a graphing calculator and a CB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E0CE-46AA-407E-BA96-D9C41A8C5E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0000"/>
                </a:solidFill>
                <a:latin typeface="Arial"/>
              </a:rPr>
              <a:t>Action!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continued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256360" y="1700280"/>
            <a:ext cx="1828800" cy="1218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26920" y="3933720"/>
            <a:ext cx="1981440" cy="13194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6048360" y="4005360"/>
            <a:ext cx="1828800" cy="12189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3606840" y="4005360"/>
            <a:ext cx="1828800" cy="1218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1871640" y="1736640"/>
            <a:ext cx="1828800" cy="121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6D93-E9D3-48A8-80E6-6A8A0B2225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0000"/>
                </a:solidFill>
                <a:latin typeface="Arial"/>
              </a:rPr>
              <a:t>Action!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d469b"/>
                </a:solidFill>
                <a:latin typeface="Arial"/>
              </a:rPr>
              <a:t>…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d469b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Whole group sh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cb0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cb04d"/>
                </a:solidFill>
                <a:latin typeface="Verdana"/>
              </a:rPr>
              <a:t>Why is this a parallel/open task??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cb0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cb04d"/>
                </a:solidFill>
                <a:latin typeface="Verdana"/>
              </a:rPr>
              <a:t>Scaffolding questions??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cb0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cb04d"/>
                </a:solidFill>
                <a:latin typeface="Verdana"/>
              </a:rPr>
              <a:t>Concepts covered??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Rates of change, periodic nature of walk, maximum, minimum, intervals of increase and decrease, points of inflection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cb0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cb04d"/>
                </a:solidFill>
                <a:latin typeface="Verdana"/>
              </a:rPr>
              <a:t>Connection to big ideas??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cb0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cb04d"/>
                </a:solidFill>
                <a:latin typeface="Verdana"/>
              </a:rPr>
              <a:t>Talk the Talk??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69E7-839C-4F24-B650-A9A6DCA769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0000"/>
                </a:solidFill>
                <a:latin typeface="Arial"/>
              </a:rPr>
              <a:t>Action!</a:t>
            </a: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 – Create a Parallel Task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1844640"/>
            <a:ext cx="77770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1773360"/>
            <a:ext cx="874872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Select a big idea and an overall expectation from either a quadratic relations strand or a trig. functions str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Consider the potential struggles that students might encounter with this big idea or expecta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Create a lesson goal and an appropriate parallel task that addresses that expec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B4F9-8888-42E0-B5C9-539432BBE3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2490d8"/>
                </a:solidFill>
                <a:latin typeface="Arial"/>
              </a:rPr>
              <a:t>Consolidate</a:t>
            </a: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 – Revisiting ll Task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Join with another p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Exchange parallel tasks for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Write suggestions on sticky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9C0B-5993-403A-A666-46927FA449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1"/>
          <p:cNvSpPr/>
          <p:nvPr/>
        </p:nvSpPr>
        <p:spPr>
          <a:xfrm>
            <a:off x="539640" y="981000"/>
            <a:ext cx="82076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469b"/>
                </a:solidFill>
                <a:latin typeface="Verdana"/>
              </a:rPr>
              <a:t>Modeling in a </a:t>
            </a:r>
            <a:br>
              <a:rPr sz="4800"/>
            </a:br>
            <a:r>
              <a:rPr b="1" lang="en-US" sz="4800" spc="-1" strike="noStrike">
                <a:solidFill>
                  <a:srgbClr val="0d469b"/>
                </a:solidFill>
                <a:latin typeface="Verdana"/>
              </a:rPr>
              <a:t>Parallel Unive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700360" y="3068640"/>
            <a:ext cx="3744720" cy="280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9068-74A2-40D3-B440-52FD25F460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Consolidate / Debrief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528948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333399"/>
                </a:solidFill>
                <a:latin typeface="Verdana"/>
              </a:rPr>
              <a:t>Ref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4865400" cy="364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626B-998B-4A9A-86BC-73CE6F29B0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Consolidate - Exit Card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n your exit card, complete each of the following stat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CA" sz="2800" spc="-1" strike="noStrike">
                <a:solidFill>
                  <a:srgbClr val="21d15c"/>
                </a:solidFill>
                <a:latin typeface="Verdana"/>
              </a:rPr>
              <a:t>1. "It's important to help students mak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d15c"/>
                </a:solidFill>
                <a:latin typeface="Verdana"/>
              </a:rPr>
              <a:t>       </a:t>
            </a:r>
            <a:r>
              <a:rPr b="0" lang="en-CA" sz="2800" spc="-1" strike="noStrike">
                <a:solidFill>
                  <a:srgbClr val="21d15c"/>
                </a:solidFill>
                <a:latin typeface="Verdana"/>
              </a:rPr>
              <a:t>connections among the differ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1d15c"/>
                </a:solidFill>
                <a:latin typeface="Verdana"/>
              </a:rPr>
              <a:t>       </a:t>
            </a:r>
            <a:r>
              <a:rPr b="0" lang="en-CA" sz="2800" spc="-1" strike="noStrike">
                <a:solidFill>
                  <a:srgbClr val="21d15c"/>
                </a:solidFill>
                <a:latin typeface="Verdana"/>
              </a:rPr>
              <a:t>representations of functions because …" </a:t>
            </a: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CA" sz="2800" spc="-1" strike="noStrike">
                <a:solidFill>
                  <a:srgbClr val="2490d8"/>
                </a:solidFill>
                <a:latin typeface="Verdana"/>
              </a:rPr>
              <a:t>2.  "What's important about parallel tas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490d8"/>
                </a:solidFill>
                <a:latin typeface="Verdana"/>
              </a:rPr>
              <a:t>        </a:t>
            </a:r>
            <a:r>
              <a:rPr b="0" lang="en-CA" sz="2800" spc="-1" strike="noStrike">
                <a:solidFill>
                  <a:srgbClr val="2490d8"/>
                </a:solidFill>
                <a:latin typeface="Verdana"/>
              </a:rPr>
              <a:t>is …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A401-CD1F-46B2-B13B-7E6C91AB85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8" descr="C:\Users\Chili\AppData\Local\Microsoft\Windows\Temporary Internet Files\Content.IE5\BH9ZW7WV\MCj03963280000[1].wmf"/>
          <p:cNvPicPr/>
          <p:nvPr/>
        </p:nvPicPr>
        <p:blipFill>
          <a:blip r:embed="rId1"/>
          <a:srcRect l="25091" t="18386" r="64461" b="18386"/>
          <a:stretch/>
        </p:blipFill>
        <p:spPr>
          <a:xfrm>
            <a:off x="7358040" y="3429000"/>
            <a:ext cx="357120" cy="22147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nsolidate – Exit Card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55" name="Picture 13" descr="C:\Users\Chili\AppData\Local\Microsoft\Windows\Temporary Internet Files\Content.IE5\X3U5RRU8\MMj03566040000[1].gif"/>
          <p:cNvPicPr/>
          <p:nvPr/>
        </p:nvPicPr>
        <p:blipFill>
          <a:blip r:embed="rId2"/>
          <a:stretch/>
        </p:blipFill>
        <p:spPr>
          <a:xfrm>
            <a:off x="4211640" y="3645000"/>
            <a:ext cx="1857240" cy="185724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4"/>
          <p:cNvSpPr/>
          <p:nvPr/>
        </p:nvSpPr>
        <p:spPr>
          <a:xfrm>
            <a:off x="785880" y="2000160"/>
            <a:ext cx="742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Please fill in your exit card and hand it in to me as you leave!</a:t>
            </a:r>
            <a:r>
              <a:rPr b="0" lang="en-CA" sz="2800" spc="-1" strike="noStrike">
                <a:solidFill>
                  <a:srgbClr val="333399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8" descr="C:\Users\Chili\AppData\Local\Microsoft\Windows\Temporary Internet Files\Content.IE5\BH9ZW7WV\MCj03963280000[1].wmf"/>
          <p:cNvPicPr/>
          <p:nvPr/>
        </p:nvPicPr>
        <p:blipFill>
          <a:blip r:embed="rId3"/>
          <a:srcRect l="35579" t="18386" r="22630" b="10197"/>
          <a:stretch/>
        </p:blipFill>
        <p:spPr>
          <a:xfrm>
            <a:off x="7715160" y="3429000"/>
            <a:ext cx="1428840" cy="25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0043-2806-4C4D-A66F-A09D6A09B7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xit" presetID="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469b"/>
                </a:solidFill>
                <a:latin typeface="Arial"/>
              </a:rPr>
              <a:t>Learning Goal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Practice posing parallel and open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Refine understanding of how different representations of relationships highlight different characteristics or behaviours and can serve differen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Highlight the importance of being conscious and explicit about instructional decisions; specifically, the exploration of differen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2F70-6C10-416E-9A72-39383A68F1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21d15c"/>
                </a:solidFill>
                <a:latin typeface="Arial"/>
              </a:rPr>
              <a:t>Minds On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 – </a:t>
            </a: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Parallel Task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57120" y="178560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Determine the equation of a function with the following proper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71680" y="2928960"/>
          <a:ext cx="7358040" cy="2652840"/>
        </p:xfrm>
        <a:graphic>
          <a:graphicData uri="http://schemas.openxmlformats.org/drawingml/2006/table">
            <a:tbl>
              <a:tblPr/>
              <a:tblGrid>
                <a:gridCol w="3678120"/>
                <a:gridCol w="3679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132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dra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es through </a:t>
                      </a:r>
                      <a:br>
                        <a:rPr sz="2400"/>
                      </a:b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–1, 5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zeros 4 and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dra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es through </a:t>
                      </a:r>
                      <a:br>
                        <a:rPr sz="2400"/>
                      </a:b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–1, 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zeros            an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6143760" y="4500720"/>
                <a:ext cx="973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5"/>
              <p:cNvSpPr txBox="1"/>
              <p:nvPr/>
            </p:nvSpPr>
            <p:spPr>
              <a:xfrm>
                <a:off x="4643280" y="4929120"/>
                <a:ext cx="9734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A737-F988-41B9-BDE5-03ABDFD066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Did you draw a grap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Did you use algebr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Which did you do first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FC87-1CF2-4F2D-A35B-38D0F1D9DD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Could you have predicted whether the ‘a’ value was positive or negative before you actually calculated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B9A9-3FC0-4452-9593-C64F4148AE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Is the value of ‘a’ what you expect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Exp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C6C6-1295-490F-85DD-DBA961CBEF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90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Did you need all three pieces of inform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Why? Or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3EF8-B8EF-4476-9CEE-049FB0B75E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How did you determine the equ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CC78-9D9E-4D83-A52E-47B1775548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8:33:56Z</dcterms:created>
  <dc:creator>Myrna Ingalls</dc:creator>
  <dc:description/>
  <dc:language>en-US</dc:language>
  <cp:lastModifiedBy>Peel District School Board</cp:lastModifiedBy>
  <dcterms:modified xsi:type="dcterms:W3CDTF">2009-08-26T21:29:57Z</dcterms:modified>
  <cp:revision>155</cp:revision>
  <dc:subject/>
  <dc:title>OAME Leadership</dc:title>
</cp:coreProperties>
</file>